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b6fd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2499-E794-45BC-9ACF-EB81EA1FF8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6E2C-8202-46C4-80DD-AF7F25DF74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FB5-EF35-4B4D-AA93-895B6ECE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031-1F1E-4095-BCAD-8A9FFC0A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D19-D37B-4E94-9CFD-AA25FF41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39E-3C3C-4015-8B9B-8214FF3D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8130-1642-4636-BF28-939DDA26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69C1-1AA7-492B-98D1-61F667BF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8BA4-573F-45DA-8AD4-0FD98C63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3732-780F-4B4E-A3A6-77585DD7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93E7-314E-4D20-994F-9A0475B5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B06A-1CFB-476F-A3B6-8A1BA928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A901-CD31-42E9-8649-A68FFF6B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627-0F20-4D5E-89BB-05795EAA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D3AF-E760-4AC1-80DF-E9871ED0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0C0A-9470-4969-A59B-6D96AC39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252B-0EB7-4E20-AA49-71DDFEBC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8B01-A29B-4454-BF53-58627152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544F-D049-439E-93AD-4B582C00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E9C88-D046-4FD0-9F6A-B93B77CA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DC3E8-B242-4DC6-B473-4C000033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EF185-8973-4601-9693-13D012CB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BEB8E-096F-4680-A0CB-A04449E5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E1E47-95D7-4535-ADD3-D3134A1B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87D-B65B-4D4F-8A0B-5DF21CAA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31A0F-D4E8-424B-B511-70F5F2F8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75658-BD25-49E7-896B-E964313C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1EB1D-9BE9-41CB-BD82-4CAF6D60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BB706-0066-41A5-B8A8-E0B248D1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3727B-59BB-4154-888F-55632932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C38C2-61C8-4E3B-96A5-1E0AFDCD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7B80D-E295-4F71-AF8C-507C121C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5DC50-B025-4D44-AD13-3BF3A02C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84DB-2E54-4B6A-ADD3-7B6CBACF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12B27-87C6-4535-B53A-EBD57904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738-A2DB-477F-B581-93BB17D1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68CA5-CFB9-4365-AEDD-74C33E40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5FE4A-0B21-4ECB-9D64-A4DB1AA4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73AD5-7F21-4E45-9C4C-29B8BE13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303BD-EA32-49F9-A0B1-20B4DF1A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C511D-64D5-42D0-BDBF-AB8FA32A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FF127-C21F-49A9-86C4-90767824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A92B9-D28C-4CC1-9BA4-932F224A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ECD0F-76B8-4EA5-B027-667088E2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7E761-057D-41B3-9F9E-DC39E882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2B8-4EBF-4C6A-948A-E5157BFE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182-BAC5-4EEC-B456-5EDEDC4D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27A-79A0-433E-9720-76D315AD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493-EC1B-4406-A280-8525B347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A92-84C7-46D7-8C24-6196E8E6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af7"/>
            </a:gs>
            <a:gs pos="100000">
              <a:srgbClr val="608d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b87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b6fd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91AA-7D1F-40D9-BBAC-AC6B5E7D4A5C}" type="slidenum">
              <a:rPr b="0" lang="fr-FR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af7"/>
            </a:gs>
            <a:gs pos="100000">
              <a:srgbClr val="608d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b87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b6fd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31b6fd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0533-75C8-4634-BD1A-E8725DC2AE69}" type="slidenum">
              <a:rPr b="0" lang="fr-FR" sz="1200" spc="-1" strike="noStrike">
                <a:solidFill>
                  <a:srgbClr val="31b6f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af7"/>
            </a:gs>
            <a:gs pos="100000">
              <a:srgbClr val="608d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b87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b6fd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41DE-2D3C-4A08-BBD4-0A9A2BCF0298}" type="slidenum">
              <a:rPr b="0" lang="fr-FR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af7"/>
            </a:gs>
            <a:gs pos="100000">
              <a:srgbClr val="608d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b87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31f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b6fd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6EEA-F4E1-4585-B3F5-72CDD2288599}" type="slidenum">
              <a:rPr b="0" lang="fr-FR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hyperlink" Target="http://fr.wikipedia.org/wiki/Fichier:Sc_2.jpg" TargetMode="Externa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fr.wikipedia.org/wiki/Fichier:St1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hyperlink" Target="http://fr.wikipedia.org/wiki/Fichier:Cumulus_clouds_in_fair_weather.jpeg" TargetMode="External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http://fr.wikipedia.org/wiki/Fichier:Cirrus_over_Warsaw,_June_26,_2005.jpg" TargetMode="External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fr.wikipedia.org/wiki/Fichier:Cirrocumulus_to_Altocumulus.JPG" TargetMode="External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hyperlink" Target="http://fr.wikipedia.org/wiki/Fichier:Close_Cirrostratus_stratiformis.JPG" TargetMode="External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hyperlink" Target="http://fr.wikipedia.org/wiki/Fichier:Altocumulus1.jpg" TargetMode="External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hyperlink" Target="http://fr.wikipedia.org/wiki/Fichier:As_1.jpg" TargetMode="External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re 1" descr=""/>
          <p:cNvPicPr/>
          <p:nvPr/>
        </p:nvPicPr>
        <p:blipFill>
          <a:blip r:embed="rId1"/>
          <a:stretch/>
        </p:blipFill>
        <p:spPr>
          <a:xfrm>
            <a:off x="4657680" y="2487600"/>
            <a:ext cx="3718080" cy="265104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re 1" descr=""/>
          <p:cNvPicPr/>
          <p:nvPr/>
        </p:nvPicPr>
        <p:blipFill>
          <a:blip r:embed="rId1"/>
          <a:stretch/>
        </p:blipFill>
        <p:spPr>
          <a:xfrm>
            <a:off x="4591080" y="689040"/>
            <a:ext cx="3430440" cy="14745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716360" y="2781000"/>
            <a:ext cx="33004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He produces an immediate threat of bad weather, a few drops of heavy rain. Preceding a cold front, it will cause storms and high winds. He starts the ground to 2000m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70" name="Picture 2" descr="Fichier:Sc 2.jpg"/>
          <p:cNvPicPr/>
          <p:nvPr/>
        </p:nvPicPr>
        <p:blipFill>
          <a:blip r:embed="rId2"/>
          <a:srcRect l="26968" t="0" r="26968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71" name="ZoneTexte 4"/>
          <p:cNvSpPr/>
          <p:nvPr/>
        </p:nvSpPr>
        <p:spPr>
          <a:xfrm>
            <a:off x="4677480" y="5843520"/>
            <a:ext cx="2232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80ff"/>
                </a:solidFill>
                <a:uFillTx/>
                <a:latin typeface="Century Gothic"/>
                <a:hlinkClick r:id="rId3"/>
              </a:rPr>
              <a:t>http://fr.wikipedia.org/wiki/Fichier:Sc_2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re 1" descr=""/>
          <p:cNvPicPr/>
          <p:nvPr/>
        </p:nvPicPr>
        <p:blipFill>
          <a:blip r:embed="rId1"/>
          <a:stretch/>
        </p:blipFill>
        <p:spPr>
          <a:xfrm>
            <a:off x="4572000" y="689040"/>
            <a:ext cx="3449520" cy="14875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716000" y="2924280"/>
            <a:ext cx="3240360" cy="15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He produces heavy rains and cloudy skies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He starts the ground to 1500m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74" name="ZoneTexte 4"/>
          <p:cNvSpPr/>
          <p:nvPr/>
        </p:nvSpPr>
        <p:spPr>
          <a:xfrm>
            <a:off x="4665240" y="5877000"/>
            <a:ext cx="21740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80ff"/>
                </a:solidFill>
                <a:uFillTx/>
                <a:latin typeface="Century Gothic"/>
                <a:hlinkClick r:id="rId2"/>
              </a:rPr>
              <a:t>http://fr.wikipedia.org/wiki/Fichier:St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Fichier:St1.jpg"/>
          <p:cNvPicPr/>
          <p:nvPr/>
        </p:nvPicPr>
        <p:blipFill>
          <a:blip r:embed="rId3"/>
          <a:srcRect l="26803" t="0" r="26803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</p:spTree>
  </p:cSld>
  <p:transition advTm="15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re 1" descr=""/>
          <p:cNvPicPr/>
          <p:nvPr/>
        </p:nvPicPr>
        <p:blipFill>
          <a:blip r:embed="rId1"/>
          <a:stretch/>
        </p:blipFill>
        <p:spPr>
          <a:xfrm>
            <a:off x="4591080" y="689040"/>
            <a:ext cx="3430440" cy="14745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716360" y="2781360"/>
            <a:ext cx="33004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424242"/>
                </a:solidFill>
                <a:latin typeface="Comic Sans MS"/>
              </a:rPr>
              <a:t>It </a:t>
            </a:r>
            <a:r>
              <a:rPr b="0" lang="en-GB" sz="1500" spc="-1" strike="noStrike">
                <a:solidFill>
                  <a:srgbClr val="424242"/>
                </a:solidFill>
                <a:latin typeface="Comic Sans MS"/>
              </a:rPr>
              <a:t>means that the good weather arrives. It is rarely seen in winter.</a:t>
            </a:r>
            <a:br>
              <a:rPr sz="1500"/>
            </a:br>
            <a:r>
              <a:rPr b="0" lang="en-GB" sz="1500" spc="-1" strike="noStrike">
                <a:solidFill>
                  <a:srgbClr val="424242"/>
                </a:solidFill>
                <a:latin typeface="Comic Sans MS"/>
              </a:rPr>
              <a:t>He has a mass of from 1000 to 2000 tons of water. We can found it between 500m and 1200m of the Earth.</a:t>
            </a:r>
            <a:endParaRPr b="0" lang="en-US" sz="15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78" name="Picture 2" descr="Fichier:Cumulus clouds in fair weather.jpeg"/>
          <p:cNvPicPr/>
          <p:nvPr/>
        </p:nvPicPr>
        <p:blipFill>
          <a:blip r:embed="rId2"/>
          <a:srcRect l="26968" t="0" r="26968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79" name="ZoneTexte 4"/>
          <p:cNvSpPr/>
          <p:nvPr/>
        </p:nvSpPr>
        <p:spPr>
          <a:xfrm>
            <a:off x="4500720" y="5840280"/>
            <a:ext cx="3887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80ff"/>
                </a:solidFill>
                <a:uFillTx/>
                <a:latin typeface="Century Gothic"/>
                <a:hlinkClick r:id="rId3"/>
              </a:rPr>
              <a:t>http://fr.wikipedia.org/wiki/Fichier:Cumulus_clouds_in_fair_weather.jpe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re 1" descr=""/>
          <p:cNvPicPr/>
          <p:nvPr/>
        </p:nvPicPr>
        <p:blipFill>
          <a:blip r:embed="rId1"/>
          <a:stretch/>
        </p:blipFill>
        <p:spPr>
          <a:xfrm>
            <a:off x="4591080" y="689040"/>
            <a:ext cx="3430440" cy="14745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608000" y="2852640"/>
            <a:ext cx="352764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This is a cloud of rain and snow between 500 m and 5500 m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82" name="Picture 2" descr="Fichier:Ns1.jpg"/>
          <p:cNvPicPr/>
          <p:nvPr/>
        </p:nvPicPr>
        <p:blipFill>
          <a:blip r:embed="rId2"/>
          <a:srcRect l="26968" t="0" r="26968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4608360" y="5877000"/>
            <a:ext cx="248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http://fr.wikipedia.org/wiki/Fichier:Ns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re 1" descr=""/>
          <p:cNvPicPr/>
          <p:nvPr/>
        </p:nvPicPr>
        <p:blipFill>
          <a:blip r:embed="rId1"/>
          <a:stretch/>
        </p:blipFill>
        <p:spPr>
          <a:xfrm>
            <a:off x="4572000" y="689040"/>
            <a:ext cx="3449520" cy="14745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716360" y="2781360"/>
            <a:ext cx="33004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It is called the cloud of thunder, located between 500 m and 9500 m.</a:t>
            </a:r>
            <a:br>
              <a:rPr sz="1800"/>
            </a:b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He can hold up to 300,000 tons of water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86" name="Picture 2" descr="Fichier:Cumulonimbus-tav.jpg"/>
          <p:cNvPicPr/>
          <p:nvPr/>
        </p:nvPicPr>
        <p:blipFill>
          <a:blip r:embed="rId2"/>
          <a:srcRect l="29630" t="0" r="29630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4"/>
          <p:cNvSpPr/>
          <p:nvPr/>
        </p:nvSpPr>
        <p:spPr>
          <a:xfrm>
            <a:off x="4572000" y="5877000"/>
            <a:ext cx="30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http://fr.wikipedia.org/wiki/Fichier:Cumulonimbus-tav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re 1" descr=""/>
          <p:cNvPicPr/>
          <p:nvPr/>
        </p:nvPicPr>
        <p:blipFill>
          <a:blip r:embed="rId1"/>
          <a:stretch/>
        </p:blipFill>
        <p:spPr>
          <a:xfrm>
            <a:off x="4565520" y="689040"/>
            <a:ext cx="3456000" cy="14745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716360" y="2852640"/>
            <a:ext cx="33004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These clouds form when crossing the terrain with a stream of air strong enough and stable. Is formed over the mountains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90" name="Picture 4" descr="http://www.wingroover.com/images/nuage_orographique.jpg"/>
          <p:cNvPicPr/>
          <p:nvPr/>
        </p:nvPicPr>
        <p:blipFill>
          <a:blip r:embed="rId2"/>
          <a:srcRect l="26971" t="0" r="26971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5"/>
          <p:cNvSpPr/>
          <p:nvPr/>
        </p:nvSpPr>
        <p:spPr>
          <a:xfrm>
            <a:off x="4716360" y="5877000"/>
            <a:ext cx="24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http://www.wingroover.com/nuages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re 4" descr=""/>
          <p:cNvPicPr/>
          <p:nvPr/>
        </p:nvPicPr>
        <p:blipFill>
          <a:blip r:embed="rId1"/>
          <a:stretch/>
        </p:blipFill>
        <p:spPr>
          <a:xfrm>
            <a:off x="762120" y="689040"/>
            <a:ext cx="7272360" cy="1676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6397560" cy="404640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7"/>
          <p:cNvSpPr/>
          <p:nvPr/>
        </p:nvSpPr>
        <p:spPr>
          <a:xfrm>
            <a:off x="3526200" y="6305400"/>
            <a:ext cx="21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http://www.wingroover.com/nuages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1258920" y="1052640"/>
          <a:ext cx="6777000" cy="4870440"/>
        </p:xfrm>
        <a:graphic>
          <a:graphicData uri="http://schemas.openxmlformats.org/drawingml/2006/table">
            <a:tbl>
              <a:tblPr/>
              <a:tblGrid>
                <a:gridCol w="2259000"/>
                <a:gridCol w="2259000"/>
                <a:gridCol w="225900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anç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gla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spag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b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mosph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mosp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mosf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en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en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ens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u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lu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4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rm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i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o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4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rostr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rostr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roestra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ograph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ograph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ográf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96" name="ZoneTexte 2"/>
          <p:cNvSpPr/>
          <p:nvPr/>
        </p:nvSpPr>
        <p:spPr>
          <a:xfrm>
            <a:off x="5733000" y="602136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83f4"/>
                </a:solidFill>
                <a:latin typeface="Comic Sans MS"/>
              </a:rPr>
              <a:t>By Toxic Clo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re 1" descr=""/>
          <p:cNvPicPr/>
          <p:nvPr/>
        </p:nvPicPr>
        <p:blipFill>
          <a:blip r:embed="rId1"/>
          <a:stretch/>
        </p:blipFill>
        <p:spPr>
          <a:xfrm>
            <a:off x="706320" y="901800"/>
            <a:ext cx="7656480" cy="1676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042560" y="2324160"/>
            <a:ext cx="67770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7680" algn="just">
              <a:lnSpc>
                <a:spcPct val="105000"/>
              </a:lnSpc>
              <a:spcBef>
                <a:spcPts val="499"/>
              </a:spcBef>
              <a:buClr>
                <a:srgbClr val="31b6fd"/>
              </a:buClr>
              <a:buSzPct val="76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omic Sans MS"/>
              </a:rPr>
              <a:t>The clouds are formed by cooling a volume of air, which causes condensation of part of his steam. If the cooling action occurs on the ground, we can see some fog. </a:t>
            </a:r>
            <a:endParaRPr b="0" lang="en-US" sz="2000" spc="-1" strike="noStrike">
              <a:solidFill>
                <a:srgbClr val="073e87"/>
              </a:solidFill>
              <a:latin typeface="Century Gothic"/>
            </a:endParaRPr>
          </a:p>
          <a:p>
            <a:pPr marL="67680" algn="just">
              <a:lnSpc>
                <a:spcPct val="105000"/>
              </a:lnSpc>
              <a:spcBef>
                <a:spcPts val="499"/>
              </a:spcBef>
              <a:buClr>
                <a:srgbClr val="31b6fd"/>
              </a:buClr>
              <a:buSzPct val="76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omic Sans MS"/>
              </a:rPr>
              <a:t>The clouds go away when the warming allows droplets or ice crystals evaporation, or when we have some precipitations (rain, hail or snow).</a:t>
            </a:r>
            <a:endParaRPr b="0" lang="en-US" sz="2000" spc="-1" strike="noStrike">
              <a:solidFill>
                <a:srgbClr val="073e87"/>
              </a:solidFill>
              <a:latin typeface="Century Gothic"/>
            </a:endParaRPr>
          </a:p>
          <a:p>
            <a:pPr marL="67680" algn="just">
              <a:lnSpc>
                <a:spcPct val="105000"/>
              </a:lnSpc>
              <a:spcBef>
                <a:spcPts val="499"/>
              </a:spcBef>
              <a:buClr>
                <a:srgbClr val="31b6fd"/>
              </a:buClr>
              <a:buSzPct val="76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omic Sans MS"/>
              </a:rPr>
              <a:t>The cloud aspect depends of the light that it receives, of the nature, size, number and distribution of the particles that constitutes it.</a:t>
            </a:r>
            <a:endParaRPr b="0" lang="en-US" sz="2000" spc="-1" strike="noStrike">
              <a:solidFill>
                <a:srgbClr val="073e87"/>
              </a:solidFill>
              <a:latin typeface="Century Gothic"/>
            </a:endParaRPr>
          </a:p>
          <a:p>
            <a:pPr marL="67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entury Gothic"/>
            </a:endParaRPr>
          </a:p>
        </p:txBody>
      </p:sp>
    </p:spTree>
  </p:cSld>
  <p:transition advTm="3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42920" y="1557000"/>
            <a:ext cx="6778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omic Sans MS"/>
              </a:rPr>
              <a:t>A cloud can weigh millions of tons! But its density is lower than that of air, which is why it floats.</a:t>
            </a:r>
            <a:endParaRPr b="0" lang="en-US" sz="22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73e87"/>
                </a:solidFill>
                <a:uFillTx/>
                <a:latin typeface="Comic Sans MS"/>
              </a:rPr>
              <a:t>All clouds have differences: </a:t>
            </a:r>
            <a:endParaRPr b="0" lang="en-US" sz="22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omic Sans MS"/>
              </a:rPr>
              <a:t>The weight</a:t>
            </a:r>
            <a:endParaRPr b="0" lang="en-US" sz="22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omic Sans MS"/>
              </a:rPr>
              <a:t>The altitude</a:t>
            </a:r>
            <a:endParaRPr b="0" lang="en-US" sz="22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omic Sans MS"/>
              </a:rPr>
              <a:t>The nature (rain, clouds ...) </a:t>
            </a:r>
            <a:endParaRPr b="0" lang="en-US" sz="22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omic Sans MS"/>
              </a:rPr>
              <a:t>The size -the form</a:t>
            </a:r>
            <a:endParaRPr b="0" lang="en-US" sz="22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entury Gothic"/>
            </a:endParaRPr>
          </a:p>
        </p:txBody>
      </p:sp>
    </p:spTree>
  </p:cSld>
  <p:transition advTm="22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re 1" descr=""/>
          <p:cNvPicPr/>
          <p:nvPr/>
        </p:nvPicPr>
        <p:blipFill>
          <a:blip r:embed="rId1"/>
          <a:stretch/>
        </p:blipFill>
        <p:spPr>
          <a:xfrm>
            <a:off x="798480" y="828720"/>
            <a:ext cx="7278840" cy="1682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mic Sans MS"/>
              </a:rPr>
              <a:t>There are four main families of clouds: 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mic Sans MS"/>
              </a:rPr>
              <a:t>High clouds 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mic Sans MS"/>
              </a:rPr>
              <a:t>The medium clouds   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mic Sans MS"/>
              </a:rPr>
              <a:t>Low clouds 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mic Sans MS"/>
              </a:rPr>
              <a:t>The cloud vertical extensions.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73e87"/>
                </a:solidFill>
                <a:latin typeface="Comic Sans MS"/>
              </a:rPr>
              <a:t>But there are some other clouds very special that we cannot found everywhere.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</p:spTree>
  </p:cSld>
  <p:transition advTm="22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re 1" descr=""/>
          <p:cNvPicPr/>
          <p:nvPr/>
        </p:nvPicPr>
        <p:blipFill>
          <a:blip r:embed="rId1"/>
          <a:stretch/>
        </p:blipFill>
        <p:spPr>
          <a:xfrm>
            <a:off x="4578480" y="689040"/>
            <a:ext cx="3443040" cy="14810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716360" y="3212640"/>
            <a:ext cx="330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omic Sans MS"/>
              </a:rPr>
              <a:t>This cloud produces rain and wind in 24 hours. We can found it between 11 000 m and 13 000 m of the earth. It weights approximately 200 tones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50" name="Picture 2" descr="Fichier:Cirrus over Warsaw, June 26, 2005.jpg"/>
          <p:cNvPicPr/>
          <p:nvPr/>
        </p:nvPicPr>
        <p:blipFill>
          <a:blip r:embed="rId2"/>
          <a:srcRect l="26969" t="0" r="26969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51" name="ZoneTexte 5"/>
          <p:cNvSpPr/>
          <p:nvPr/>
        </p:nvSpPr>
        <p:spPr>
          <a:xfrm>
            <a:off x="4572000" y="5732640"/>
            <a:ext cx="3600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80ff"/>
                </a:solidFill>
                <a:uFillTx/>
                <a:latin typeface="Century Gothic"/>
                <a:hlinkClick r:id="rId3"/>
              </a:rPr>
              <a:t>http://fr.wikipedia.org/wiki/Fichier:Cirrus_over_Warsaw,_June_26,_2005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re 1" descr=""/>
          <p:cNvPicPr/>
          <p:nvPr/>
        </p:nvPicPr>
        <p:blipFill>
          <a:blip r:embed="rId1"/>
          <a:stretch/>
        </p:blipFill>
        <p:spPr>
          <a:xfrm>
            <a:off x="4591080" y="755640"/>
            <a:ext cx="3430440" cy="14749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642920" y="3429000"/>
            <a:ext cx="336564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omic Sans MS"/>
              </a:rPr>
              <a:t>You can see them on summer mornings, followed by storm in the afternoon. We can found it between 10 000 m and 11 000 m of the earth. 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54" name="Picture 2" descr="Fichier:Cirrocumulus to Altocumulus.JPG"/>
          <p:cNvPicPr/>
          <p:nvPr/>
        </p:nvPicPr>
        <p:blipFill>
          <a:blip r:embed="rId2"/>
          <a:srcRect l="26968" t="0" r="26968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55" name="ZoneTexte 4"/>
          <p:cNvSpPr/>
          <p:nvPr/>
        </p:nvSpPr>
        <p:spPr>
          <a:xfrm>
            <a:off x="4623120" y="5819760"/>
            <a:ext cx="3469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80ff"/>
                </a:solidFill>
                <a:uFillTx/>
                <a:latin typeface="Century Gothic"/>
                <a:hlinkClick r:id="rId3"/>
              </a:rPr>
              <a:t>http://fr.wikipedia.org/wiki/Fichier:Cirrocumulus_to_Altocumulus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re 1" descr=""/>
          <p:cNvPicPr/>
          <p:nvPr/>
        </p:nvPicPr>
        <p:blipFill>
          <a:blip r:embed="rId1"/>
          <a:stretch/>
        </p:blipFill>
        <p:spPr>
          <a:xfrm>
            <a:off x="4578480" y="755640"/>
            <a:ext cx="3443040" cy="1474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Fichier:Close Cirrostratus stratiformis.JPG"/>
          <p:cNvPicPr/>
          <p:nvPr/>
        </p:nvPicPr>
        <p:blipFill>
          <a:blip r:embed="rId2"/>
          <a:srcRect l="27659" t="0" r="27659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716360" y="3429000"/>
            <a:ext cx="33004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omic Sans MS"/>
              </a:rPr>
              <a:t>This cloud produces precipitations. We can found it between 9 000m and 10 000 m of the earth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59" name="ZoneTexte 4"/>
          <p:cNvSpPr/>
          <p:nvPr/>
        </p:nvSpPr>
        <p:spPr>
          <a:xfrm>
            <a:off x="4593960" y="5805360"/>
            <a:ext cx="3518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80ff"/>
                </a:solidFill>
                <a:uFillTx/>
                <a:latin typeface="Century Gothic"/>
                <a:hlinkClick r:id="rId3"/>
              </a:rPr>
              <a:t>http://fr.wikipedia.org/wiki/Fichier:Close_Cirrostratus_stratiformis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re 1" descr=""/>
          <p:cNvPicPr/>
          <p:nvPr/>
        </p:nvPicPr>
        <p:blipFill>
          <a:blip r:embed="rId1"/>
          <a:stretch/>
        </p:blipFill>
        <p:spPr>
          <a:xfrm>
            <a:off x="4535640" y="689040"/>
            <a:ext cx="3485880" cy="15476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716360" y="3068640"/>
            <a:ext cx="33004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omic Sans MS"/>
              </a:rPr>
              <a:t>He produces precipitations and the sky could be overcast. We can found it between 3000m and 5000m of the earth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62" name="Picture 2" descr="Fichier:Altocumulus1.jpg"/>
          <p:cNvPicPr/>
          <p:nvPr/>
        </p:nvPicPr>
        <p:blipFill>
          <a:blip r:embed="rId2"/>
          <a:srcRect l="26967" t="0" r="26967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63" name="ZoneTexte 4"/>
          <p:cNvSpPr/>
          <p:nvPr/>
        </p:nvSpPr>
        <p:spPr>
          <a:xfrm>
            <a:off x="4714920" y="5805360"/>
            <a:ext cx="33861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80ff"/>
                </a:solidFill>
                <a:uFillTx/>
                <a:latin typeface="Century Gothic"/>
                <a:hlinkClick r:id="rId3"/>
              </a:rPr>
              <a:t>http://fr.wikipedia.org/wiki/Fichier:Altocumulus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re 1" descr=""/>
          <p:cNvPicPr/>
          <p:nvPr/>
        </p:nvPicPr>
        <p:blipFill>
          <a:blip r:embed="rId1"/>
          <a:stretch/>
        </p:blipFill>
        <p:spPr>
          <a:xfrm>
            <a:off x="4591080" y="689040"/>
            <a:ext cx="3430440" cy="14745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16360" y="3068640"/>
            <a:ext cx="33004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He causes precipitations. 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We can found it at 5000m of the earth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66" name="Picture 2" descr="Fichier:As 1.jpg"/>
          <p:cNvPicPr/>
          <p:nvPr/>
        </p:nvPicPr>
        <p:blipFill>
          <a:blip r:embed="rId2"/>
          <a:srcRect l="26968" t="0" r="26968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67" name="ZoneTexte 4"/>
          <p:cNvSpPr/>
          <p:nvPr/>
        </p:nvSpPr>
        <p:spPr>
          <a:xfrm>
            <a:off x="4643280" y="5830920"/>
            <a:ext cx="2737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80ff"/>
                </a:solidFill>
                <a:uFillTx/>
                <a:latin typeface="Century Gothic"/>
                <a:hlinkClick r:id="rId3"/>
              </a:rPr>
              <a:t>http://fr.wikipedia.org/wiki/Fichier:As_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21:44Z</dcterms:created>
  <dc:creator>Anne</dc:creator>
  <dc:description/>
  <dc:language>en-US</dc:language>
  <cp:lastModifiedBy>stribym</cp:lastModifiedBy>
  <dcterms:modified xsi:type="dcterms:W3CDTF">2012-01-03T08:06:31Z</dcterms:modified>
  <cp:revision>49</cp:revision>
  <dc:subject/>
  <dc:title>Les nuages</dc:title>
</cp:coreProperties>
</file>